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3992-593A-4990-8696-CE11DE258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284C-9B5F-496F-ACEF-E4C563127F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DF1-7DA7-4467-9EB4-F153F904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631-4B8B-4D47-A9BC-46C42AAC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F46-20C5-4FB8-8826-93EA028C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503-B7AE-462B-840B-079E25D4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06DE-E894-4CF9-9293-514D00F7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334C-5682-4572-A5E4-0425F7A3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C145-347D-4E6B-9202-36BFF260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483D-75D2-45BC-B546-4E34318E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872D-B0A3-4F68-823B-6B9DF500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E50E-8655-45BB-A511-961783A2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1148-8F49-4644-95CC-1BCF7F18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80E-B3BE-4D5F-BD0A-C983350F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EF54-35ED-4E5C-A12B-1113CE36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21A6-E97A-4243-AB08-0605EC96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5BEF-7AD6-4603-9325-19E94C1F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AEBE-FAC9-47A0-8A39-EFF7C6AF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6716-3171-41D3-B271-43415823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FC5-0CAF-40D2-A9F8-FE58FF92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8F5-FFA6-49E1-B861-979B21CB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559-0BEE-40BF-BB99-ABFE59C4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2E0-C544-4DD5-A327-5CF6A3A0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4D7-3644-4A5C-8FDF-7314D564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15B-9FC1-45ED-AC86-ED99E932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16F-78EB-4E5E-B81B-41ECEC25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5DD3-CA0F-4FAD-989E-98EC4F7DE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D3A2-870B-4A19-BD14-10B9DC3AF8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OMMERCIAL REVOLUTION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16th century: approx. 1500-17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71160"/>
            <a:ext cx="6324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orts of silver from the New World and population growth led 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nf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– effected the poor and peasants the mo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downers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erch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artisan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row ri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reinvest money in exploration ventur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opulation grow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enclosure pushed people of the land into c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ariff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heavy taxes placed on foreign goods to protect home industr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5" descr="https://encrypted-tbn0.gstatic.com/images?q=tbn:ANd9GcTXHFh7EDj4RYKBUvRyNagCSnqhijzhR74eEosd7_JWD0L7II-dNw"/>
          <p:cNvPicPr/>
          <p:nvPr/>
        </p:nvPicPr>
        <p:blipFill>
          <a:blip r:embed="rId1"/>
          <a:stretch/>
        </p:blipFill>
        <p:spPr>
          <a:xfrm>
            <a:off x="6477120" y="2286000"/>
            <a:ext cx="25146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– Longer Ter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 in guilds – replaced by domestic system where raw goods were sent to individuals to produce final product at h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urred Industrial Revolution by providing increased resources and encouraging consumer demand for finished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– Longer Ter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onization will lead 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orced lab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 of natives, then Africans as slav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use of native peoples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struction of culture and Meso/South-American popul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diseas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http://4.bp.blogspot.com/-Wgxb_4PsLa4/T--pNvuiccI/AAAAAAAAAZ0/7wtKNtVhTps/s1600/Spanish+and+Aztecs.jpg"/>
          <p:cNvPicPr/>
          <p:nvPr/>
        </p:nvPicPr>
        <p:blipFill>
          <a:blip r:embed="rId1"/>
          <a:stretch/>
        </p:blipFill>
        <p:spPr>
          <a:xfrm>
            <a:off x="2209680" y="3809880"/>
            <a:ext cx="394344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– Longer Ter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971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ultural Diffus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western beliefs to New Worl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mographic shif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migrations of peoples (Europeans for opportunities, Africans as labo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mpet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etween European nations states leading to eventual world wa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2" descr="http://www.waywelivednc.com/maps/historical/middle-passage.gif"/>
          <p:cNvPicPr/>
          <p:nvPr/>
        </p:nvPicPr>
        <p:blipFill>
          <a:blip r:embed="rId1"/>
          <a:stretch/>
        </p:blipFill>
        <p:spPr>
          <a:xfrm>
            <a:off x="2514600" y="3645000"/>
            <a:ext cx="375120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“Change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witch from land-based manorialism as the main economic system to one based on capital (i.e. mone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ignificance: brought about age of discovery and explora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6" name="Picture 5" descr="http://mrscarafiello.weebly.com/uploads/6/0/5/9/6059361/5673237_orig.jpg?654"/>
          <p:cNvPicPr/>
          <p:nvPr/>
        </p:nvPicPr>
        <p:blipFill>
          <a:blip r:embed="rId1"/>
          <a:stretch/>
        </p:blipFill>
        <p:spPr>
          <a:xfrm>
            <a:off x="1447920" y="2133720"/>
            <a:ext cx="6207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use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0440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pulation growth: 60 million in 1400; 75 million in 1500; 100 million in 16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re for spices and luxury goods without having to use expensive Italian merchants or Muslims (Turks blocked land rout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ise of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pitali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laissez-faire):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repreneu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 bourgeoisie at the forefro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http://www.schillerinstitute.org/graphics/graphs/gallagher_population_article/fig-2.jpg"/>
          <p:cNvPicPr/>
          <p:nvPr/>
        </p:nvPicPr>
        <p:blipFill>
          <a:blip r:embed="rId1"/>
          <a:stretch/>
        </p:blipFill>
        <p:spPr>
          <a:xfrm>
            <a:off x="4572000" y="3429000"/>
            <a:ext cx="41338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pitalis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italism had existed in some forms in antiquity, but faded away with manorial system of the Middle Ag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vestment and money lending (usury) limited by Church la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vived in the late Middle Ages through trade (Hanseatic League) and population grow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trepreneurs ignore church laws banning usury, leading to growth in bank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5" descr="http://ncronline.org/sites/default/files/styles/article_slideshow/public/stories/images/11092012p18ph.jpg?itok=PfILK6I6"/>
          <p:cNvPicPr/>
          <p:nvPr/>
        </p:nvPicPr>
        <p:blipFill>
          <a:blip r:embed="rId1"/>
          <a:stretch/>
        </p:blipFill>
        <p:spPr>
          <a:xfrm>
            <a:off x="5568840" y="2209680"/>
            <a:ext cx="39117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use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ed better navigational techniques, maps (printing press)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strolab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narchs needed wealth to consolidate their power to beco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BSOLUTE MONARCH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re to spread Catholic faith. (especially with rise of Protestant movemen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2" descr="http://upload.wikimedia.org/wikipedia/commons/9/90/Astrolabe_(PSF).png"/>
          <p:cNvPicPr/>
          <p:nvPr/>
        </p:nvPicPr>
        <p:blipFill>
          <a:blip r:embed="rId1"/>
          <a:stretch/>
        </p:blipFill>
        <p:spPr>
          <a:xfrm>
            <a:off x="762120" y="4237200"/>
            <a:ext cx="3352680" cy="23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static.ddmcdn.com/gif/astrolabe-1.jpg"/>
          <p:cNvPicPr/>
          <p:nvPr/>
        </p:nvPicPr>
        <p:blipFill>
          <a:blip r:embed="rId2"/>
          <a:stretch/>
        </p:blipFill>
        <p:spPr>
          <a:xfrm>
            <a:off x="5410080" y="4103640"/>
            <a:ext cx="243072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e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n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dic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Florence.  Would lend out money to individuals, countries, and even Popes.  Charge interest and could inve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oint-Stock Compani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ke Dutch East India Company) – merchants combine funds to raise large amount of capital – each partner received a share in proportion to contribution.  This enabled expensive adventures with minimal risk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 Rise of the Middle Class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rgesses, bourgeoisi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– nobles looked down on them because not of high birth, church looked down on them for capitalist ideas, monarchy liked because could ta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7720" y="15235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rcantilis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economic system in which the nation-state carefully controls most economic activities, especially colonies, in order to strengthen a nation’s economic wealth and power (measured by gold and silver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5-Point Star 4"/>
          <p:cNvSpPr/>
          <p:nvPr/>
        </p:nvSpPr>
        <p:spPr>
          <a:xfrm>
            <a:off x="266760" y="45720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90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9" y="407480"/>
                </a:lnTo>
                <a:lnTo>
                  <a:pt x="789790" y="659316"/>
                </a:lnTo>
                <a:lnTo>
                  <a:pt x="924706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6"/>
                </a:lnTo>
                <a:lnTo>
                  <a:pt x="1" y="40748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5-Point Star 6"/>
          <p:cNvSpPr/>
          <p:nvPr/>
        </p:nvSpPr>
        <p:spPr>
          <a:xfrm>
            <a:off x="152280" y="24382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90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9" y="407480"/>
                </a:lnTo>
                <a:lnTo>
                  <a:pt x="789790" y="659316"/>
                </a:lnTo>
                <a:lnTo>
                  <a:pt x="924706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6"/>
                </a:lnTo>
                <a:lnTo>
                  <a:pt x="1" y="40748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2" descr="https://globalimperialism.wikispaces.com/file/view/merc._pic.JPG/116057177/800x303/merc._pic.JPG"/>
          <p:cNvPicPr/>
          <p:nvPr/>
        </p:nvPicPr>
        <p:blipFill>
          <a:blip r:embed="rId1"/>
          <a:stretch/>
        </p:blipFill>
        <p:spPr>
          <a:xfrm>
            <a:off x="304920" y="4267080"/>
            <a:ext cx="6210360" cy="2355840"/>
          </a:xfrm>
          <a:prstGeom prst="rect">
            <a:avLst/>
          </a:prstGeom>
          <a:ln w="0">
            <a:noFill/>
          </a:ln>
        </p:spPr>
      </p:pic>
      <p:sp>
        <p:nvSpPr>
          <p:cNvPr id="144" name="Left Arrow 8"/>
          <p:cNvSpPr/>
          <p:nvPr/>
        </p:nvSpPr>
        <p:spPr>
          <a:xfrm>
            <a:off x="6324480" y="4267080"/>
            <a:ext cx="2210040" cy="2438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oal –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Favorable Balance of Trad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ploration &amp; Colon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ed to enrich home country.  They would send raw materials to mother country where a finish product was made.  The colony would then be forced to buy the finished product at a profi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mercantilism"/>
          <p:cNvPicPr/>
          <p:nvPr/>
        </p:nvPicPr>
        <p:blipFill>
          <a:blip r:embed="rId1"/>
          <a:stretch/>
        </p:blipFill>
        <p:spPr>
          <a:xfrm>
            <a:off x="1066680" y="4672080"/>
            <a:ext cx="66294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1:03:09Z</dcterms:created>
  <dc:creator>MSJ</dc:creator>
  <dc:description/>
  <dc:language>en-US</dc:language>
  <cp:lastModifiedBy>Lyons, Anne</cp:lastModifiedBy>
  <dcterms:modified xsi:type="dcterms:W3CDTF">2013-04-17T11:08:23Z</dcterms:modified>
  <cp:revision>7</cp:revision>
  <dc:subject/>
  <dc:title>COMMERCIAL REVOLUTION</dc:title>
</cp:coreProperties>
</file>